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1C664-74E1-49C1-814F-47A8336054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AAF06-3428-431A-A2EC-EC910E2D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B00B4F-8E23-4B3E-92CF-E65702A2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69E5A6-0704-4C34-BB55-FE8781D5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376467-B024-4BCA-9E5C-AD31C462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620C5C-981E-4D69-B74C-105A9CF6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90F5C2-213C-4C49-BB6A-31CE2E7E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EEFE3D-8441-47F0-B0A7-77C8B6DE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4A97E6-7810-4A1D-8445-0B6E5C6B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5CB35D-D83A-476C-967C-66AB13B9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BA9567-E63F-4205-ADA9-FEE31DB035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96BFB-2EE6-45A2-AFBC-5AF39FE588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5BAAF-5DE4-456F-A328-9EEB510C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FE09A-030E-4163-A896-58510F42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FEB04-3A09-413E-A8C0-C087CC25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79497-9EF0-46DD-B927-14848316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92205-1956-47FF-BB51-8DBE653E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D5624-573E-4171-AA4A-85FF1384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45B93-75A9-4715-88EB-DE0FDA46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90BF7-A7F3-433B-A934-33AF3FEA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7F213-2BB5-4981-BAC1-7F65F299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7DC3E-980E-4518-BBFD-AECFA765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741C6-F4F2-4ECC-BB5B-224CB2EA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EAF16-53D3-416C-8AE5-851843E398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1A057-744F-403E-BD02-BA91CCE7D7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9B59BE-88D8-40B4-B61B-DE025D0213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88407D-D9C6-4D5E-B1EA-D6668B55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DDE862-AB2E-4870-B8F6-47C4A7DB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CD0E8D-6113-41BD-A5BB-CA64B30A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78DB0E-070A-427F-9E1A-321A4B99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914A5F-1E1C-407A-8C93-5D8EF32B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DCF9F3-B5BD-4DD9-87B2-9B6BCDA5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D7F594-882B-4DE4-A9B2-04830A13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32D012-2274-4645-8ABF-5A7677F2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DBF91-5C0E-4668-B9C7-74DA3017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6F529B-D0A7-4C9A-8994-F409139A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DFE746-0A75-4379-B07E-5C140E13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A69EC0-33F1-4557-9F29-0A226FEB5E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E7083-A74F-4DE5-AD07-CA2E16D699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01255-E837-41FC-BE3D-B49B5F73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94F38-DB41-43E7-89FB-430DFCE9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31759-AA91-4C7A-80CD-B87B91B7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87B1F2-AA09-45A6-A174-99FDBF2D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40205-B9D8-41C9-BF6A-94A554F2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8CDC7-7016-404C-AA2F-C27D3F73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5D6D2-A386-4BD8-9799-14C0FA55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39659-952E-46FB-BE73-DC4FF3EF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D7877-5E6D-4388-886B-8575FE23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0AE7A-84C3-49E0-9CDF-B4A438F4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CDA99-4F3F-48C1-94FA-8005115C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DF2C2-C9B4-44FF-B4CD-4AF82FECBD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6B112-483C-4EBD-A725-56CBD2E683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7F700-7404-44B6-8B75-8A3EB571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13178-5816-4178-9C6C-782FD2FB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35D93-E9A5-49D0-A09C-EDB9F702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FCC58-B662-4875-9069-9CFC91B5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7EF48-DED0-4D87-9D8F-1F986C6B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E00BD-794E-47F6-A3BB-4D6F04FA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5A7CA-FD8F-4FC1-A662-3804DF04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0198E-D279-413A-B8C6-6CD50781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B48A8-5A98-4A9B-865F-0FC298BF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419D1-0BA0-430B-A9BD-4A8F689E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1C6A5-5317-4E81-90B0-3F28CB06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4F0AC-7DAF-409B-A9A6-E1A5823838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FA795-470A-434F-845A-ECBE60D6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71BFE-834C-48A6-A524-576A8EFC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78698-DFD0-4742-95B8-EAFE73A2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156AB-A0A6-48AB-9296-BE95AC85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8135B-AFD4-45E5-890E-88E47AF6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A7FF6-0D77-4B5B-96A3-410C5758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CB248-7C6C-4450-AAF9-10DF605C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04FFA-A8AE-41BD-92AF-52A1FAC7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8ED77-A740-4EF0-8D0D-7851316B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445CE-B495-4ABC-A517-C4DA34C9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DD7C5-007B-4811-8618-4F973E9D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BA58D-F439-4D13-8BEB-81965513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29C58-08CB-476D-803F-FB764666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BA651-15DA-48F1-8924-44E91D4F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2D99C-6E3C-4A45-AC3F-FB165FEA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28FA8-1122-4806-9072-BEE8597C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4632E-4A07-420A-A58B-402F7FFD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687B8-FC61-4F0B-84A7-6D340F07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48B18-2F6E-4A36-9D62-3F33F89F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F7627-21F8-4F2D-AC5A-B1F848C9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AD4D2-C77D-459D-B233-5B9346FC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2742C-2B9F-4A03-B21D-6AF68887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D5146-3619-44BA-A565-8CD431ED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57985-0105-4869-9FE9-86F38CAE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43B91-0B34-46E8-B312-9C0BC5FF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5F9F6-BF1F-4425-A839-3D407B2E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64ECA-9767-4C97-8A93-7DD98D4E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20476-43FF-4F31-9D2A-9F8CFE7E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49A7D-8EF4-44D6-9A86-57198D5D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CEB9D-0B2E-43B1-995A-76ED19A2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B155A-CFD3-4885-92CE-B238C6DB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FA857-4ACE-4F7E-94DC-E09DE665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82457-9886-4269-8A40-569A7F7F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745CE-D761-40CF-934E-78E6239D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DC171-E8E8-41A9-BD49-E35B1057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E54E9-2BF7-4324-82EF-DBCC7012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E20DC-1EFC-4F11-835F-0A43BA3B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D0F97-05AE-48A4-A279-4E924AC0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4E692-DCD6-4EA3-9ABA-45252EAF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C3541-9D07-43A1-AD37-57F60995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13614-2854-46B3-A9C9-07D2DE77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501C5-4BAF-48F2-B328-4978AD37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C8485F-DABA-41BA-BC86-5A61BA15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E963D-AAA1-4831-B33B-FCF87FC5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3E77A-3941-4A21-B32F-909F08C5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80126-966C-4D77-95A1-5289511B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BA223-28A9-4390-B11C-E88B317A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0FEB-B16A-43AF-ACD8-F263165C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7DCF8-033E-4FFB-BEB5-D2EFD70D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787E07-8170-4EE9-87EC-E238E21E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119082-30C2-4608-8B41-042E003E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03450-494A-4610-A293-86C1A833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29FBC-7EB1-4C2C-9A0C-1E0B3F3D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E797F-D472-476F-BA38-10F80D26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6AA1C1-43EE-4194-8CE8-B7467807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BD7D1-9254-4066-A18C-D3B39989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E43D1F-1999-4C41-8985-1CFD9F9C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6D572-7863-4CF5-B1AE-4F7748AC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27AC7-F3E2-470B-B66D-3570B4EF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AEA89-B7D2-4C5E-937E-E2FBE914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7643A-9C9B-4C0A-B46C-D9A5CB94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35B1C-8292-4A65-B480-B38686E5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A6FD9C-1D26-4820-B565-52661189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59330A-08D2-45E6-BEB8-EC39C6A6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0A179-42FA-4129-B679-553CA310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EE79F9-6D9D-40C4-BDCF-E4009974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1FABB-AE3C-439E-994B-36D7CFF4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9FD793-326F-4B3A-8922-36F8C885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0AF90-63B7-4BC1-8C29-C9F6347D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C00BB2-219C-4A53-92B2-4C1A3F01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4C059-3C9E-4127-907E-36FAF20D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89DDF7-4913-49B4-ADDF-751129CB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66D7D1-0BD7-4600-B69C-5BA7209F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97843-FC37-4187-A1CB-DB0DE1D4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04C5F4-6859-4E66-BDE0-331A6CF7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B1AA85-1536-45D4-8B63-2DFF9BB8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66220D-07C2-406B-BF94-DDD5C904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9E8EDA-3664-4A4D-9620-B65C74A4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7B22D-27AE-4D6C-BE3A-13E52AE5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70F1D7-BFF1-47D8-92B8-E8749702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04CDF8-D242-4E51-B4C4-B2E82CF4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D856C-D680-49C2-B922-1240CB74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FD8D9-7753-43D1-8AD6-B4747DAB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D10B7-83A2-4725-A752-55E8DCC6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311B45-9496-4C6E-9780-2C87523A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EA986B-7DD2-4A0F-8A9D-5F789A5E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566840-F61B-4B31-9AEE-39AF2D5E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F51F6A-904F-4398-AB06-DA4B875A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FCE4A1-FACA-4538-97A5-00824BEF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E839AC-425C-4FD7-A9A7-541FABD2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7ACB78-4F76-4F37-84C4-B71CB553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15A652-4853-48EA-AF72-78EC5062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EB10B-9591-422B-B62B-F833BC8D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EAC557-6933-41AE-ABAF-7289AAFE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EC74BB-8041-4F9A-B1AA-FC116168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1DBC38-74C6-4F57-B554-8658BC2A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2653F4-26A8-47C5-83AA-BBF83A31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34307-55E5-48C6-AF70-A539D6E5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0CC0EC-2285-43BD-BF91-B22D5943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719F1A-030D-4A4D-A18F-DBA26D79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124707-F48B-4EC1-8F0D-9C9AE9F1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B0214-115C-4887-828E-BFAC012C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CB1C96-2A39-42B5-9060-1F283642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7820B4-CE4C-47F6-B24F-EF17DF2BC8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1F86AF-13D6-42DC-9014-0F254C2C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AF2122-AA65-443F-B49C-C2FDD82A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59D44B-2BFA-4B6D-ABA9-599C4A65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A952F1-FE90-4B83-AD2D-E14BB302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C42C0A-C0F7-4164-ACF7-6A7800DB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7F09A6-E848-4BF5-9AD6-6ACBE837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8133A4-EE40-47B6-82A1-7AB0F503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B60D2D-0E19-4A58-9024-53F058B9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442009-E248-4D94-A036-FB265DB2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ED5E10-2128-4C7B-9D17-425A3D9E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978113-8D21-4E0F-A342-868638BF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1A2811-8F1E-470E-8814-AE608F15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861F1A-CDFD-4D43-982D-0F4387B6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2CF25E-B9C4-4710-99BE-B0B96436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6D8D38-36A6-46BA-B06B-040111D2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51894E-2FA4-4D8B-9A76-44F71D1C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AC1047-EB42-4353-997A-4BF2B2A4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88205A-01EC-445D-BE33-1A556330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62AB19-6C31-4F59-A24E-1ECFCBA5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205B83-710D-42FF-850D-E0DAE991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3E3E50-1408-4690-A61A-0A9F0FDB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D03B5E-F93E-44E3-9100-FDCE62C7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11063A-C081-4394-AB1F-208BDE8A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21D67C-756D-48A9-A68F-58C2840F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8154E9-C94C-42D1-803B-DD999350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DD1ABF-6683-4B10-8978-C67814D5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3F2F3B-E837-4B95-8BA8-E1225619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2B2810-6430-4431-9A93-23865BF6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D4C707-3423-41F0-92DE-376380F1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6E2349-4321-4428-B46F-15A47CCC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F374D9-0B5D-469C-9CDE-9C2983FD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91DFE9-3E23-4719-9589-02B5D2CB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9A2E00-2A88-42F9-BF85-28B3BE02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84E888-FE17-4D73-9B6F-B13FBC19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D617B2-D7B3-42EA-8494-697547A8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728617-A8F9-445F-BC66-B4CC7C9B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BC4AC4-AB93-4704-BB0D-AB43F105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F8B083-CE0E-4CF1-A5AA-9248968E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E31A4B-CF15-4646-8807-7C43A176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9EF96C-E988-4506-A268-B3A5E66E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403406-A50F-414D-8731-7DFB9AE1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5D9F0F-E704-4060-B3F4-399386F2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9EE60E-4758-4469-9504-9B342CA4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D2D6-D212-4F3D-A115-D15DDEF4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AB09A4-7DE3-4871-844E-BB870DA8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A1459C-9B95-4DDC-8BF3-E3C2CE3D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74B911-EBE0-438C-80EC-132B1D3B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A7CFA2-0B75-4199-ABE9-16390581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4D9720-3C1B-403E-A577-2A59135B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6A4EB2-0183-47AB-B0A7-BEDFBC00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FE86F6-7729-43D7-81B5-1DA31E54A5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82668-385A-422C-B88A-6B66CA721C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50A75-10A3-4D04-8986-B99D1ED7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E52BD-F93A-4FA9-8643-4FB9991D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7AC3F-BC2B-4BC6-B888-CE026F09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486A-7829-485B-ABF7-AEB470E3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3B25C-120E-4070-9C91-747BCA6C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553A6-EDF3-407F-BF7D-4FFDAD6A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B8C65-3FF6-4D1A-97FB-D7D10426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5063-F7F3-4E37-85B3-BF4B999E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35434-FF4B-40C9-9D64-D0421DE0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4C165-CA32-4857-8FD5-E832535F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AE721-7077-4DD2-8F6A-DF65D284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8C614-9D69-475F-9C85-A8D11ECC5F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BB0ECF-B261-4095-9D46-FC59FDB943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8889C-711E-4BA1-B224-35A4A4D7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A190F1-AE3E-4AFE-9377-00554CB6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1AFB4E-7B29-4C5E-A5C2-C9A87812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1D9056-371A-4728-9A4F-8CFD563A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A574B1-F3A7-4B9A-BF69-686D50DF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3DCDA2-1F05-42A2-8473-169D5759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76AE58-3B69-4D4D-822B-2C6CC18C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3A0E49-8B06-463B-93E8-53B426C7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EFB828-7E7C-42AC-AB7F-28CA0625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1B6622-4A6A-4AF8-B83B-E0DC2E25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50115-2A93-4B51-A715-5864956F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78BEE-EBDD-435B-9E8B-DA9BD974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41AA93-7330-47C6-8536-A99FA0C481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262AB2-2189-47DF-A17F-939FA85885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1BC1E1-BE38-4E67-9F5A-4E1BC65F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6EC6C6-686B-43B9-AE53-2D015829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C636C9-8939-4B44-A00C-3EC94EA0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B1B53F-6249-4695-B1B1-38C21166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29542A-DEF5-40C6-9C16-FF245181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656535-95D7-4D74-B3CA-61030993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82BDDD-1232-43B8-83B9-7433B1A0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5878A8-FC93-4C1D-A9E3-B83C96FF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A50DB-DE3C-44BD-8F53-24D5C08E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39E233-7D0D-499B-9E52-781F2E48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B41842-C657-4B2E-A137-C91241F1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D5F87A-9B70-462E-9867-6EEC8D21DA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AFE77-D126-4403-B6DB-B4A7C62403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66561-04B6-4AA1-B1BA-444AE09B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CFD16-869E-4EEC-9664-00BD5C7E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88D40-9B9C-4FF2-8F00-9AB040DD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C02F6-C4C1-4D8D-A8D9-1236639D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E3B2B-220C-4544-9FB9-C702ED1F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A10B7-C369-4BE7-8589-7E990CF7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1E401-8DAB-4490-AE0D-331B534E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E4960-5CC7-41DF-A611-E4832237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62082-2DDB-442A-B5D2-24148083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564F0-A41D-477C-BD63-7E2468C1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AA43A-43F2-448B-81ED-B9255370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46B56-4F2F-464F-BAE3-7937A816C6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E013FF-AC53-41D2-901B-CAFB0FFA0D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018997-5A2D-4CEA-879B-CC5A2E21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A07EBB-4718-46BD-998B-BFD9A772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EB732-EB6B-4832-B1B3-A965A218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315D7-FABE-456B-8E58-9C2F90A9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D9A6-C92E-4A2E-A52C-4FB342CD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99EFA5-5508-42E4-AD17-6BCC0AF9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B239E-D128-4BE0-A07F-6366122A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CD14FF-39B6-4688-BE02-D7B81FE6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731BA-8AFC-42FF-A864-4399BF44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48ADD-4E3B-40F6-A87D-A9C31B39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0BCA72-87FE-41B9-AD82-6562478D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52F56-F82D-4AE6-A47F-3249EE7DEF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1DCAD8-48BC-4551-975D-D635BDF299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E49A82-BAD6-4958-B603-51A12B9F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6286C7-8F46-4D86-B3C5-48DF8159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A09E-7720-4777-9542-E3321C26B68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D051-276F-421C-990A-17FF97BAEE7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48E6-B3B0-4167-9743-91827C76588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7122-D441-4DA0-88BE-0C44D84EDAA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3FC7-0A3B-44E1-A63E-716F105084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3D44-780C-4B7B-958F-C297347AF48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10E3-C535-4E23-9A28-C458A6A1282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AAF0-F09D-4906-8D14-EC4409DCAED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6857-D3A6-463A-92E8-F2C95D8B7F3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2675-CC32-4324-B265-4FEB0FCCDDD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9FC9-B25D-4141-BB72-29CA2D5DD99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D085-4D5A-40D8-B0CB-EDC217CF645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2555-0BDB-49C8-8102-D25450C434E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951A-E92A-4970-BA4E-6984AF26CEE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99D4-769B-4026-AB45-0A1DB3EB6FF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8832-EEF6-4D6E-9599-679A9A6B765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FB50-9730-4B51-A896-C5F4EE8EBEF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5398-AFC6-4438-B9C7-8ED4F26C0EB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39D5-2C06-409A-B06A-1CCC84F0CCD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2547-FD2A-41B2-A255-8FAFD1215D5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8586-0CA3-4668-B4CF-C0655EF64AB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47D2-EDF9-44BF-B8DD-B6B2D2A7F63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CEBD-4430-44FB-99A6-FEDD82C5AB8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98D2-783E-462C-9B99-0F08602A4A4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6284880" cy="360"/>
            <a:chOff x="2284560" y="2448000"/>
            <a:chExt cx="628488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62848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6284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9"/>
          <p:cNvSpPr/>
          <p:nvPr/>
        </p:nvSpPr>
        <p:spPr>
          <a:xfrm>
            <a:off x="-87480" y="1744560"/>
            <a:ext cx="88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以内的加法和减法（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5"/>
          <p:cNvSpPr/>
          <p:nvPr/>
        </p:nvSpPr>
        <p:spPr>
          <a:xfrm>
            <a:off x="3043080" y="2716200"/>
            <a:ext cx="5590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2500200" y="2666880"/>
            <a:ext cx="65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解 决 问 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95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97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8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9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05" name="文本框 99"/>
          <p:cNvSpPr/>
          <p:nvPr/>
        </p:nvSpPr>
        <p:spPr>
          <a:xfrm>
            <a:off x="365040" y="1114560"/>
            <a:ext cx="793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一般客船有乘客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，到一个港口下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6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，上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5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。这时船上乘客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文本框 3"/>
          <p:cNvSpPr/>
          <p:nvPr/>
        </p:nvSpPr>
        <p:spPr>
          <a:xfrm>
            <a:off x="2201760" y="2174760"/>
            <a:ext cx="397692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00-468+559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91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文本框 5"/>
          <p:cNvSpPr/>
          <p:nvPr/>
        </p:nvSpPr>
        <p:spPr>
          <a:xfrm>
            <a:off x="1752480" y="3137040"/>
            <a:ext cx="51580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这时船上乘客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9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人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09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11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2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9" name="文本框 99"/>
          <p:cNvSpPr/>
          <p:nvPr/>
        </p:nvSpPr>
        <p:spPr>
          <a:xfrm>
            <a:off x="365040" y="954000"/>
            <a:ext cx="798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学校图书室有一个三层高的书架，第一层放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6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图书，第二层放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6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图书，第三层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图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层和第三层一共有多少本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层比第二层多多少本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文本框 3"/>
          <p:cNvSpPr/>
          <p:nvPr/>
        </p:nvSpPr>
        <p:spPr>
          <a:xfrm>
            <a:off x="893880" y="2762280"/>
            <a:ext cx="37861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63+602=126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文本框 5"/>
          <p:cNvSpPr/>
          <p:nvPr/>
        </p:nvSpPr>
        <p:spPr>
          <a:xfrm>
            <a:off x="893880" y="4257720"/>
            <a:ext cx="37861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2-568=3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01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Rectangle 51"/>
          <p:cNvSpPr/>
          <p:nvPr/>
        </p:nvSpPr>
        <p:spPr>
          <a:xfrm>
            <a:off x="2087640" y="4292640"/>
            <a:ext cx="507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7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宋体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2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宋体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51"/>
          <p:cNvSpPr/>
          <p:nvPr/>
        </p:nvSpPr>
        <p:spPr>
          <a:xfrm>
            <a:off x="3909960" y="4292640"/>
            <a:ext cx="2587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0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页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51"/>
          <p:cNvSpPr/>
          <p:nvPr/>
        </p:nvSpPr>
        <p:spPr>
          <a:xfrm>
            <a:off x="2085840" y="5164200"/>
            <a:ext cx="4587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宋体"/>
              </a:rPr>
              <a:t>答：这本书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宋体"/>
              </a:rPr>
              <a:t>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7"/>
          <p:cNvGrpSpPr/>
          <p:nvPr/>
        </p:nvGrpSpPr>
        <p:grpSpPr>
          <a:xfrm>
            <a:off x="279360" y="1844640"/>
            <a:ext cx="5651640" cy="1585800"/>
            <a:chOff x="279360" y="1844640"/>
            <a:chExt cx="5651640" cy="1585800"/>
          </a:xfrm>
        </p:grpSpPr>
        <p:sp>
          <p:nvSpPr>
            <p:cNvPr id="1013" name="AutoShape 27"/>
            <p:cNvSpPr/>
            <p:nvPr/>
          </p:nvSpPr>
          <p:spPr>
            <a:xfrm>
              <a:off x="1745280" y="1844640"/>
              <a:ext cx="4185720" cy="891000"/>
            </a:xfrm>
            <a:prstGeom prst="wedgeRoundRectCallout">
              <a:avLst>
                <a:gd name="adj1" fmla="val -57342"/>
                <a:gd name="adj2" fmla="val 1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这个星期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天我看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页书，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天我看了余下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页书。你知道这本书有多少页吗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4" name="图片 5" descr="]@P`{@U$K{A7A$9804YYMFT"/>
            <p:cNvPicPr/>
            <p:nvPr/>
          </p:nvPicPr>
          <p:blipFill>
            <a:blip r:embed="rId8"/>
            <a:stretch/>
          </p:blipFill>
          <p:spPr>
            <a:xfrm>
              <a:off x="279360" y="2042640"/>
              <a:ext cx="1092600" cy="138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5" name="组合 8"/>
          <p:cNvGrpSpPr/>
          <p:nvPr/>
        </p:nvGrpSpPr>
        <p:grpSpPr>
          <a:xfrm>
            <a:off x="5592600" y="3022560"/>
            <a:ext cx="2960640" cy="1805040"/>
            <a:chOff x="5592600" y="3022560"/>
            <a:chExt cx="2960640" cy="1805040"/>
          </a:xfrm>
        </p:grpSpPr>
        <p:sp>
          <p:nvSpPr>
            <p:cNvPr id="1016" name="AutoShape 27"/>
            <p:cNvSpPr/>
            <p:nvPr/>
          </p:nvSpPr>
          <p:spPr>
            <a:xfrm>
              <a:off x="5592600" y="3426840"/>
              <a:ext cx="1602000" cy="576360"/>
            </a:xfrm>
            <a:prstGeom prst="wedgeRoundRectCallout">
              <a:avLst>
                <a:gd name="adj1" fmla="val 61694"/>
                <a:gd name="adj2" fmla="val 3347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怎样列式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7" name="图片 6" descr="_4`F[E$PX4I}_~SSZVJ7V4J"/>
            <p:cNvPicPr/>
            <p:nvPr/>
          </p:nvPicPr>
          <p:blipFill>
            <a:blip r:embed="rId9"/>
            <a:stretch/>
          </p:blipFill>
          <p:spPr>
            <a:xfrm>
              <a:off x="7361640" y="3022560"/>
              <a:ext cx="1191600" cy="180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9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21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2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029" name=""/>
          <p:cNvGraphicFramePr/>
          <p:nvPr/>
        </p:nvGraphicFramePr>
        <p:xfrm>
          <a:off x="2949480" y="1025640"/>
          <a:ext cx="3479760" cy="1100160"/>
        </p:xfrm>
        <a:graphic>
          <a:graphicData uri="http://schemas.openxmlformats.org/drawingml/2006/table">
            <a:tbl>
              <a:tblPr/>
              <a:tblGrid>
                <a:gridCol w="870120"/>
                <a:gridCol w="869760"/>
                <a:gridCol w="870120"/>
                <a:gridCol w="869760"/>
              </a:tblGrid>
              <a:tr h="286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品名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护眼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习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空调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品样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品价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0" name="Picture 2" descr="D:\我的文档-桌面-收藏夹\桌面\空调扇.jpg"/>
          <p:cNvPicPr/>
          <p:nvPr/>
        </p:nvPicPr>
        <p:blipFill>
          <a:blip r:embed="rId8"/>
          <a:stretch/>
        </p:blipFill>
        <p:spPr>
          <a:xfrm>
            <a:off x="5630760" y="1338120"/>
            <a:ext cx="798480" cy="5256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D:\我的文档-桌面-收藏夹\桌面\学习机.jpg"/>
          <p:cNvPicPr/>
          <p:nvPr/>
        </p:nvPicPr>
        <p:blipFill>
          <a:blip r:embed="rId9"/>
          <a:stretch/>
        </p:blipFill>
        <p:spPr>
          <a:xfrm>
            <a:off x="4898880" y="1338120"/>
            <a:ext cx="606600" cy="474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D:\我的文档-桌面-收藏夹\桌面\护眼灯.jpg"/>
          <p:cNvPicPr/>
          <p:nvPr/>
        </p:nvPicPr>
        <p:blipFill>
          <a:blip r:embed="rId10"/>
          <a:stretch/>
        </p:blipFill>
        <p:spPr>
          <a:xfrm>
            <a:off x="3932280" y="1338120"/>
            <a:ext cx="549360" cy="481320"/>
          </a:xfrm>
          <a:prstGeom prst="rect">
            <a:avLst/>
          </a:prstGeom>
          <a:ln w="0">
            <a:noFill/>
          </a:ln>
        </p:spPr>
      </p:pic>
      <p:sp>
        <p:nvSpPr>
          <p:cNvPr id="1033" name="TextBox 101"/>
          <p:cNvSpPr/>
          <p:nvPr/>
        </p:nvSpPr>
        <p:spPr>
          <a:xfrm>
            <a:off x="4040280" y="434880"/>
            <a:ext cx="1571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销售清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组合 14"/>
          <p:cNvGrpSpPr/>
          <p:nvPr/>
        </p:nvGrpSpPr>
        <p:grpSpPr>
          <a:xfrm>
            <a:off x="5178600" y="2255760"/>
            <a:ext cx="3555720" cy="2390760"/>
            <a:chOff x="5178600" y="2255760"/>
            <a:chExt cx="3555720" cy="2390760"/>
          </a:xfrm>
        </p:grpSpPr>
        <p:pic>
          <p:nvPicPr>
            <p:cNvPr id="1035" name="Picture 6" descr="D:\我的文档-桌面-收藏夹\桌面\1.jpg"/>
            <p:cNvPicPr/>
            <p:nvPr/>
          </p:nvPicPr>
          <p:blipFill>
            <a:blip r:embed="rId11"/>
            <a:stretch/>
          </p:blipFill>
          <p:spPr>
            <a:xfrm>
              <a:off x="6429600" y="2436840"/>
              <a:ext cx="1419120" cy="19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Picture 5" descr="D:\我的文档-桌面-收藏夹\桌面\Redocn_2012072307274631副本.png"/>
            <p:cNvPicPr/>
            <p:nvPr/>
          </p:nvPicPr>
          <p:blipFill>
            <a:blip r:embed="rId12"/>
            <a:stretch/>
          </p:blipFill>
          <p:spPr>
            <a:xfrm>
              <a:off x="6216840" y="2372040"/>
              <a:ext cx="80784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7" name="AutoShape 27"/>
            <p:cNvSpPr/>
            <p:nvPr/>
          </p:nvSpPr>
          <p:spPr>
            <a:xfrm>
              <a:off x="7598520" y="2255760"/>
              <a:ext cx="1135800" cy="641160"/>
            </a:xfrm>
            <a:prstGeom prst="wedgeRoundRectCallout">
              <a:avLst>
                <a:gd name="adj1" fmla="val -61731"/>
                <a:gd name="adj2" fmla="val 558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您买这三种商品，一共收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AutoShape 27"/>
            <p:cNvSpPr/>
            <p:nvPr/>
          </p:nvSpPr>
          <p:spPr>
            <a:xfrm>
              <a:off x="5178600" y="4005000"/>
              <a:ext cx="1332720" cy="641520"/>
            </a:xfrm>
            <a:prstGeom prst="wedgeRoundRectCallout">
              <a:avLst>
                <a:gd name="adj1" fmla="val 63370"/>
                <a:gd name="adj2" fmla="val -4836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爸爸应该准备多少钱才够呢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Box 107"/>
            <p:cNvSpPr/>
            <p:nvPr/>
          </p:nvSpPr>
          <p:spPr>
            <a:xfrm>
              <a:off x="6622560" y="4258800"/>
              <a:ext cx="10328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明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TextBox 14"/>
          <p:cNvSpPr/>
          <p:nvPr/>
        </p:nvSpPr>
        <p:spPr>
          <a:xfrm>
            <a:off x="293760" y="2222640"/>
            <a:ext cx="70912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红的爸爸大约应该准备多少钱才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收银员应收多少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八边形 13"/>
          <p:cNvSpPr/>
          <p:nvPr/>
        </p:nvSpPr>
        <p:spPr>
          <a:xfrm>
            <a:off x="527040" y="820800"/>
            <a:ext cx="514440" cy="51732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Box 3"/>
          <p:cNvSpPr/>
          <p:nvPr/>
        </p:nvSpPr>
        <p:spPr>
          <a:xfrm>
            <a:off x="439560" y="3373560"/>
            <a:ext cx="349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6d86a4"/>
                </a:solidFill>
                <a:latin typeface="Arial"/>
                <a:ea typeface="宋体"/>
              </a:rPr>
              <a:t>阅读与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3" name=""/>
          <p:cNvGraphicFramePr/>
          <p:nvPr/>
        </p:nvGraphicFramePr>
        <p:xfrm>
          <a:off x="279360" y="4178160"/>
          <a:ext cx="4803840" cy="1554120"/>
        </p:xfrm>
        <a:graphic>
          <a:graphicData uri="http://schemas.openxmlformats.org/drawingml/2006/table">
            <a:tbl>
              <a:tblPr/>
              <a:tblGrid>
                <a:gridCol w="1182600"/>
                <a:gridCol w="362124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已知条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空调扇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58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元，学习机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25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元，护眼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66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元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7fbd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所求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红的爸爸应准备多少钱？收银员应收多少钱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45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47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8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9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5" name="TextBox 3"/>
          <p:cNvSpPr/>
          <p:nvPr/>
        </p:nvSpPr>
        <p:spPr>
          <a:xfrm>
            <a:off x="293760" y="836640"/>
            <a:ext cx="34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宋体"/>
              </a:rPr>
              <a:t>分析与解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51"/>
          <p:cNvSpPr/>
          <p:nvPr/>
        </p:nvSpPr>
        <p:spPr>
          <a:xfrm>
            <a:off x="271440" y="3078000"/>
            <a:ext cx="5799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16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22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58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Group 36"/>
          <p:cNvGrpSpPr/>
          <p:nvPr/>
        </p:nvGrpSpPr>
        <p:grpSpPr>
          <a:xfrm>
            <a:off x="453960" y="3575160"/>
            <a:ext cx="2683080" cy="1527120"/>
            <a:chOff x="453960" y="3575160"/>
            <a:chExt cx="2683080" cy="1527120"/>
          </a:xfrm>
        </p:grpSpPr>
        <p:sp>
          <p:nvSpPr>
            <p:cNvPr id="1058" name="Rectangle 51"/>
            <p:cNvSpPr/>
            <p:nvPr/>
          </p:nvSpPr>
          <p:spPr>
            <a:xfrm>
              <a:off x="453960" y="3575160"/>
              <a:ext cx="268308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6  6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2  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＋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  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8  8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直接连接符 24"/>
            <p:cNvSpPr/>
            <p:nvPr/>
          </p:nvSpPr>
          <p:spPr>
            <a:xfrm>
              <a:off x="455760" y="5102280"/>
              <a:ext cx="168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Rectangle 51"/>
          <p:cNvSpPr/>
          <p:nvPr/>
        </p:nvSpPr>
        <p:spPr>
          <a:xfrm>
            <a:off x="1638360" y="5032440"/>
            <a:ext cx="55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51"/>
          <p:cNvSpPr/>
          <p:nvPr/>
        </p:nvSpPr>
        <p:spPr>
          <a:xfrm>
            <a:off x="1457280" y="4756320"/>
            <a:ext cx="4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51"/>
          <p:cNvSpPr/>
          <p:nvPr/>
        </p:nvSpPr>
        <p:spPr>
          <a:xfrm>
            <a:off x="1273320" y="5032440"/>
            <a:ext cx="576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51"/>
          <p:cNvSpPr/>
          <p:nvPr/>
        </p:nvSpPr>
        <p:spPr>
          <a:xfrm>
            <a:off x="1063800" y="4756320"/>
            <a:ext cx="43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51"/>
          <p:cNvSpPr/>
          <p:nvPr/>
        </p:nvSpPr>
        <p:spPr>
          <a:xfrm>
            <a:off x="907920" y="5032440"/>
            <a:ext cx="57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51"/>
          <p:cNvSpPr/>
          <p:nvPr/>
        </p:nvSpPr>
        <p:spPr>
          <a:xfrm>
            <a:off x="2911320" y="3078000"/>
            <a:ext cx="2267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949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（元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51"/>
          <p:cNvSpPr/>
          <p:nvPr/>
        </p:nvSpPr>
        <p:spPr>
          <a:xfrm>
            <a:off x="268200" y="5518080"/>
            <a:ext cx="4529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答：收银员应收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49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组合 5"/>
          <p:cNvGrpSpPr/>
          <p:nvPr/>
        </p:nvGrpSpPr>
        <p:grpSpPr>
          <a:xfrm>
            <a:off x="5321160" y="731880"/>
            <a:ext cx="3299040" cy="2573280"/>
            <a:chOff x="5321160" y="731880"/>
            <a:chExt cx="3299040" cy="2573280"/>
          </a:xfrm>
        </p:grpSpPr>
        <p:sp>
          <p:nvSpPr>
            <p:cNvPr id="1068" name="AutoShape 27"/>
            <p:cNvSpPr/>
            <p:nvPr/>
          </p:nvSpPr>
          <p:spPr>
            <a:xfrm>
              <a:off x="5321160" y="731880"/>
              <a:ext cx="2737440" cy="907560"/>
            </a:xfrm>
            <a:prstGeom prst="wedgeRoundRectCallout">
              <a:avLst>
                <a:gd name="adj1" fmla="val 30800"/>
                <a:gd name="adj2" fmla="val 6678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收银员收钱要准确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要精确计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图片 6" descr="_4`F[E$PX4I}_~SSZVJ7V4J"/>
            <p:cNvPicPr/>
            <p:nvPr/>
          </p:nvPicPr>
          <p:blipFill>
            <a:blip r:embed="rId8"/>
            <a:stretch/>
          </p:blipFill>
          <p:spPr>
            <a:xfrm>
              <a:off x="7654680" y="1842120"/>
              <a:ext cx="965520" cy="146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0" name="组合 8"/>
          <p:cNvGrpSpPr/>
          <p:nvPr/>
        </p:nvGrpSpPr>
        <p:grpSpPr>
          <a:xfrm>
            <a:off x="2560680" y="4079880"/>
            <a:ext cx="5244840" cy="1521000"/>
            <a:chOff x="2560680" y="4079880"/>
            <a:chExt cx="5244840" cy="1521000"/>
          </a:xfrm>
        </p:grpSpPr>
        <p:sp>
          <p:nvSpPr>
            <p:cNvPr id="1071" name="AutoShape 27"/>
            <p:cNvSpPr/>
            <p:nvPr/>
          </p:nvSpPr>
          <p:spPr>
            <a:xfrm>
              <a:off x="2560680" y="4079880"/>
              <a:ext cx="3961080" cy="933840"/>
            </a:xfrm>
            <a:prstGeom prst="wedgeRoundRectCallout">
              <a:avLst>
                <a:gd name="adj1" fmla="val 53287"/>
                <a:gd name="adj2" fmla="val 3302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买这三种商品应收多少钱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怎样列式计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2" name="图片 7" descr="_4`F[E$PX4I}_~SSZVJ7V4J"/>
            <p:cNvPicPr/>
            <p:nvPr/>
          </p:nvPicPr>
          <p:blipFill>
            <a:blip r:embed="rId9"/>
            <a:stretch/>
          </p:blipFill>
          <p:spPr>
            <a:xfrm>
              <a:off x="6840720" y="4138200"/>
              <a:ext cx="964800" cy="14626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73" name=""/>
          <p:cNvGraphicFramePr/>
          <p:nvPr/>
        </p:nvGraphicFramePr>
        <p:xfrm>
          <a:off x="793800" y="1639800"/>
          <a:ext cx="3479760" cy="1100160"/>
        </p:xfrm>
        <a:graphic>
          <a:graphicData uri="http://schemas.openxmlformats.org/drawingml/2006/table">
            <a:tbl>
              <a:tblPr/>
              <a:tblGrid>
                <a:gridCol w="870120"/>
                <a:gridCol w="869760"/>
                <a:gridCol w="870120"/>
                <a:gridCol w="869760"/>
              </a:tblGrid>
              <a:tr h="286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品名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护眼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习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空调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品样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品价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74" name="Picture 2" descr="D:\我的文档-桌面-收藏夹\桌面\空调扇.jpg"/>
          <p:cNvPicPr/>
          <p:nvPr/>
        </p:nvPicPr>
        <p:blipFill>
          <a:blip r:embed="rId10"/>
          <a:stretch/>
        </p:blipFill>
        <p:spPr>
          <a:xfrm>
            <a:off x="3475080" y="1952640"/>
            <a:ext cx="798480" cy="5256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D:\我的文档-桌面-收藏夹\桌面\学习机.jpg"/>
          <p:cNvPicPr/>
          <p:nvPr/>
        </p:nvPicPr>
        <p:blipFill>
          <a:blip r:embed="rId11"/>
          <a:stretch/>
        </p:blipFill>
        <p:spPr>
          <a:xfrm>
            <a:off x="2743200" y="1952640"/>
            <a:ext cx="606600" cy="4744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D:\我的文档-桌面-收藏夹\桌面\护眼灯.jpg"/>
          <p:cNvPicPr/>
          <p:nvPr/>
        </p:nvPicPr>
        <p:blipFill>
          <a:blip r:embed="rId12"/>
          <a:stretch/>
        </p:blipFill>
        <p:spPr>
          <a:xfrm>
            <a:off x="1776240" y="1952640"/>
            <a:ext cx="547920" cy="48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8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9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80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1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8" name="TextBox 3"/>
          <p:cNvSpPr/>
          <p:nvPr/>
        </p:nvSpPr>
        <p:spPr>
          <a:xfrm>
            <a:off x="293760" y="836640"/>
            <a:ext cx="34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宋体"/>
              </a:rPr>
              <a:t>分析与解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51"/>
          <p:cNvSpPr/>
          <p:nvPr/>
        </p:nvSpPr>
        <p:spPr>
          <a:xfrm>
            <a:off x="911160" y="3365640"/>
            <a:ext cx="4381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17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23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56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51"/>
          <p:cNvSpPr/>
          <p:nvPr/>
        </p:nvSpPr>
        <p:spPr>
          <a:xfrm>
            <a:off x="546120" y="3898800"/>
            <a:ext cx="2808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40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56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96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（元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直接连接符 5"/>
          <p:cNvSpPr/>
          <p:nvPr/>
        </p:nvSpPr>
        <p:spPr>
          <a:xfrm>
            <a:off x="969840" y="3898800"/>
            <a:ext cx="161928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51"/>
          <p:cNvSpPr/>
          <p:nvPr/>
        </p:nvSpPr>
        <p:spPr>
          <a:xfrm>
            <a:off x="0" y="4943520"/>
            <a:ext cx="5616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答：小红的爸爸应准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6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AutoShape 27"/>
          <p:cNvSpPr/>
          <p:nvPr/>
        </p:nvSpPr>
        <p:spPr>
          <a:xfrm>
            <a:off x="5003640" y="692280"/>
            <a:ext cx="3600720" cy="907920"/>
          </a:xfrm>
          <a:prstGeom prst="wedgeRoundRectCallout">
            <a:avLst>
              <a:gd name="adj1" fmla="val 33643"/>
              <a:gd name="adj2" fmla="val 6783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准备多少钱才够，不用精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计算，估一估就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图片 6" descr="_4`F[E$PX4I}_~SSZVJ7V4J"/>
          <p:cNvPicPr/>
          <p:nvPr/>
        </p:nvPicPr>
        <p:blipFill>
          <a:blip r:embed="rId8"/>
          <a:stretch/>
        </p:blipFill>
        <p:spPr>
          <a:xfrm>
            <a:off x="8217000" y="1697040"/>
            <a:ext cx="895320" cy="1357200"/>
          </a:xfrm>
          <a:prstGeom prst="rect">
            <a:avLst/>
          </a:prstGeom>
          <a:ln w="0">
            <a:noFill/>
          </a:ln>
        </p:spPr>
      </p:pic>
      <p:grpSp>
        <p:nvGrpSpPr>
          <p:cNvPr id="1095" name="组合 9"/>
          <p:cNvGrpSpPr/>
          <p:nvPr/>
        </p:nvGrpSpPr>
        <p:grpSpPr>
          <a:xfrm>
            <a:off x="4603680" y="4338720"/>
            <a:ext cx="4019400" cy="1508040"/>
            <a:chOff x="4603680" y="4338720"/>
            <a:chExt cx="4019400" cy="1508040"/>
          </a:xfrm>
        </p:grpSpPr>
        <p:sp>
          <p:nvSpPr>
            <p:cNvPr id="1096" name="AutoShape 27"/>
            <p:cNvSpPr/>
            <p:nvPr/>
          </p:nvSpPr>
          <p:spPr>
            <a:xfrm>
              <a:off x="4603680" y="4418640"/>
              <a:ext cx="2680200" cy="935280"/>
            </a:xfrm>
            <a:prstGeom prst="wedgeRoundRectCallout">
              <a:avLst>
                <a:gd name="adj1" fmla="val 56277"/>
                <a:gd name="adj2" fmla="val 3913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7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3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6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先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什么比较简便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7" name="图片 7" descr="]@P`{@U$K{A7A$9804YYMFT"/>
            <p:cNvPicPr/>
            <p:nvPr/>
          </p:nvPicPr>
          <p:blipFill>
            <a:blip r:embed="rId9"/>
            <a:stretch/>
          </p:blipFill>
          <p:spPr>
            <a:xfrm flipH="1">
              <a:off x="7435440" y="4338720"/>
              <a:ext cx="1187640" cy="150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8" name="组合 10"/>
          <p:cNvGrpSpPr/>
          <p:nvPr/>
        </p:nvGrpSpPr>
        <p:grpSpPr>
          <a:xfrm>
            <a:off x="4192560" y="2797200"/>
            <a:ext cx="4204440" cy="1541520"/>
            <a:chOff x="4192560" y="2797200"/>
            <a:chExt cx="4204440" cy="1541520"/>
          </a:xfrm>
        </p:grpSpPr>
        <p:sp>
          <p:nvSpPr>
            <p:cNvPr id="1099" name="AutoShape 27"/>
            <p:cNvSpPr/>
            <p:nvPr/>
          </p:nvSpPr>
          <p:spPr>
            <a:xfrm>
              <a:off x="4192560" y="3076920"/>
              <a:ext cx="2823840" cy="934560"/>
            </a:xfrm>
            <a:prstGeom prst="wedgeRoundRectCallout">
              <a:avLst>
                <a:gd name="adj1" fmla="val 57981"/>
                <a:gd name="adj2" fmla="val 3404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小红的爸爸应准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多少钱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怎样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0" name="图片 8" descr="]@P`{@U$K{A7A$9804YYMFT"/>
            <p:cNvPicPr/>
            <p:nvPr/>
          </p:nvPicPr>
          <p:blipFill>
            <a:blip r:embed="rId10"/>
            <a:stretch/>
          </p:blipFill>
          <p:spPr>
            <a:xfrm flipH="1">
              <a:off x="7183440" y="2797200"/>
              <a:ext cx="1213560" cy="15415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1" name=""/>
          <p:cNvGraphicFramePr/>
          <p:nvPr/>
        </p:nvGraphicFramePr>
        <p:xfrm>
          <a:off x="641520" y="1697040"/>
          <a:ext cx="3479760" cy="1100160"/>
        </p:xfrm>
        <a:graphic>
          <a:graphicData uri="http://schemas.openxmlformats.org/drawingml/2006/table">
            <a:tbl>
              <a:tblPr/>
              <a:tblGrid>
                <a:gridCol w="870120"/>
                <a:gridCol w="869760"/>
                <a:gridCol w="870120"/>
                <a:gridCol w="869760"/>
              </a:tblGrid>
              <a:tr h="286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品名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护眼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习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空调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品样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品价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2" name="Picture 2" descr="D:\我的文档-桌面-收藏夹\桌面\空调扇.jpg"/>
          <p:cNvPicPr/>
          <p:nvPr/>
        </p:nvPicPr>
        <p:blipFill>
          <a:blip r:embed="rId11"/>
          <a:stretch/>
        </p:blipFill>
        <p:spPr>
          <a:xfrm>
            <a:off x="3322800" y="2009880"/>
            <a:ext cx="798480" cy="52524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3" descr="D:\我的文档-桌面-收藏夹\桌面\学习机.jpg"/>
          <p:cNvPicPr/>
          <p:nvPr/>
        </p:nvPicPr>
        <p:blipFill>
          <a:blip r:embed="rId12"/>
          <a:stretch/>
        </p:blipFill>
        <p:spPr>
          <a:xfrm>
            <a:off x="2590920" y="2009880"/>
            <a:ext cx="606240" cy="47448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D:\我的文档-桌面-收藏夹\桌面\护眼灯.jpg"/>
          <p:cNvPicPr/>
          <p:nvPr/>
        </p:nvPicPr>
        <p:blipFill>
          <a:blip r:embed="rId13"/>
          <a:stretch/>
        </p:blipFill>
        <p:spPr>
          <a:xfrm>
            <a:off x="1623960" y="2009880"/>
            <a:ext cx="547920" cy="48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6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08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9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0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6" name="TextBox 3"/>
          <p:cNvSpPr/>
          <p:nvPr/>
        </p:nvSpPr>
        <p:spPr>
          <a:xfrm>
            <a:off x="277920" y="826920"/>
            <a:ext cx="34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4f81bd"/>
                </a:solidFill>
                <a:latin typeface="宋体"/>
                <a:ea typeface="宋体"/>
              </a:rPr>
              <a:t>回顾与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7"/>
          <p:cNvSpPr/>
          <p:nvPr/>
        </p:nvSpPr>
        <p:spPr>
          <a:xfrm>
            <a:off x="857160" y="3068640"/>
            <a:ext cx="7858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答：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                          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8"/>
          <p:cNvSpPr/>
          <p:nvPr/>
        </p:nvSpPr>
        <p:spPr>
          <a:xfrm>
            <a:off x="1571760" y="3090960"/>
            <a:ext cx="700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小红的爸爸应该准备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60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元。收银员应该收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49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Box 9"/>
          <p:cNvSpPr/>
          <p:nvPr/>
        </p:nvSpPr>
        <p:spPr>
          <a:xfrm>
            <a:off x="1000080" y="4354560"/>
            <a:ext cx="77151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请你在生活中发现并提出一些数学问题，选择合适的计算策略并解决它们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组合 9"/>
          <p:cNvGrpSpPr/>
          <p:nvPr/>
        </p:nvGrpSpPr>
        <p:grpSpPr>
          <a:xfrm>
            <a:off x="928800" y="1496880"/>
            <a:ext cx="6921000" cy="1463760"/>
            <a:chOff x="928800" y="1496880"/>
            <a:chExt cx="6921000" cy="1463760"/>
          </a:xfrm>
        </p:grpSpPr>
        <p:sp>
          <p:nvSpPr>
            <p:cNvPr id="1121" name="AutoShape 27"/>
            <p:cNvSpPr/>
            <p:nvPr/>
          </p:nvSpPr>
          <p:spPr>
            <a:xfrm>
              <a:off x="928800" y="1674720"/>
              <a:ext cx="5500080" cy="1108080"/>
            </a:xfrm>
            <a:prstGeom prst="wedgeRoundRectCallout">
              <a:avLst>
                <a:gd name="adj1" fmla="val 56449"/>
                <a:gd name="adj2" fmla="val 313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决实际问题时，要认真分析具体情况，再灵活选择解决的策略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2" name="图片 6" descr="_4`F[E$PX4I}_~SSZVJ7V4J"/>
            <p:cNvPicPr/>
            <p:nvPr/>
          </p:nvPicPr>
          <p:blipFill>
            <a:blip r:embed="rId8"/>
            <a:stretch/>
          </p:blipFill>
          <p:spPr>
            <a:xfrm>
              <a:off x="6885000" y="1496880"/>
              <a:ext cx="964800" cy="1463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组合 2"/>
          <p:cNvGrpSpPr/>
          <p:nvPr/>
        </p:nvGrpSpPr>
        <p:grpSpPr>
          <a:xfrm>
            <a:off x="-20520" y="122400"/>
            <a:ext cx="3244680" cy="525240"/>
            <a:chOff x="-20520" y="122400"/>
            <a:chExt cx="3244680" cy="525240"/>
          </a:xfrm>
        </p:grpSpPr>
        <p:pic>
          <p:nvPicPr>
            <p:cNvPr id="1124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29960" y="122400"/>
              <a:ext cx="3094200" cy="52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5" name="组合 4"/>
            <p:cNvGrpSpPr/>
            <p:nvPr/>
          </p:nvGrpSpPr>
          <p:grpSpPr>
            <a:xfrm>
              <a:off x="-20520" y="218160"/>
              <a:ext cx="429840" cy="271440"/>
              <a:chOff x="-20520" y="218160"/>
              <a:chExt cx="429840" cy="271440"/>
            </a:xfrm>
          </p:grpSpPr>
          <p:sp>
            <p:nvSpPr>
              <p:cNvPr id="1126" name="椭圆 2"/>
              <p:cNvSpPr/>
              <p:nvPr/>
            </p:nvSpPr>
            <p:spPr>
              <a:xfrm rot="16200000">
                <a:off x="222480" y="38052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7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97640" y="344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椭圆 29"/>
              <p:cNvSpPr/>
              <p:nvPr/>
            </p:nvSpPr>
            <p:spPr>
              <a:xfrm rot="16200000">
                <a:off x="222480" y="2548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7640" y="2325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20520" y="360360"/>
                <a:ext cx="35640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0520" y="332640"/>
                <a:ext cx="35640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20520" y="245880"/>
                <a:ext cx="35640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20520" y="218160"/>
                <a:ext cx="356400" cy="9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4" name="文本框 6"/>
          <p:cNvSpPr/>
          <p:nvPr/>
        </p:nvSpPr>
        <p:spPr>
          <a:xfrm>
            <a:off x="503280" y="1174680"/>
            <a:ext cx="810108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台灯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台，电饭煲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9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，自行车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6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辆，若需要买一盏台灯、一个电饭煲和一辆自行车需要付多少钱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文本框 3"/>
          <p:cNvSpPr/>
          <p:nvPr/>
        </p:nvSpPr>
        <p:spPr>
          <a:xfrm>
            <a:off x="1519200" y="2724120"/>
            <a:ext cx="55641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7+295+368=73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文本框 5"/>
          <p:cNvSpPr/>
          <p:nvPr/>
        </p:nvSpPr>
        <p:spPr>
          <a:xfrm>
            <a:off x="1066680" y="3911760"/>
            <a:ext cx="5881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买一盏台灯、一个电饭煲和一辆自行车需要付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3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元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8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40" name="椭圆 2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1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8" name="文本框 6"/>
          <p:cNvSpPr/>
          <p:nvPr/>
        </p:nvSpPr>
        <p:spPr>
          <a:xfrm>
            <a:off x="1562040" y="1284120"/>
            <a:ext cx="476244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不同的策略解决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文本框 3"/>
          <p:cNvSpPr/>
          <p:nvPr/>
        </p:nvSpPr>
        <p:spPr>
          <a:xfrm>
            <a:off x="365040" y="1762200"/>
            <a:ext cx="83185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决实际 问题时，有时候只需要估一估就可以，有时候需要精确计算。要认真分析具体情况，灵活选择解决问题的策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51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53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4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5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1" name="文本框 99"/>
          <p:cNvSpPr/>
          <p:nvPr/>
        </p:nvSpPr>
        <p:spPr>
          <a:xfrm>
            <a:off x="293760" y="1049400"/>
            <a:ext cx="8634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笔算下面各题并验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58-263=      400-267=           400-109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39+182=       654+278=          548+36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5"/>
          <p:cNvSpPr/>
          <p:nvPr/>
        </p:nvSpPr>
        <p:spPr>
          <a:xfrm>
            <a:off x="1957320" y="4692600"/>
            <a:ext cx="1893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文本框 7"/>
          <p:cNvSpPr/>
          <p:nvPr/>
        </p:nvSpPr>
        <p:spPr>
          <a:xfrm>
            <a:off x="1981080" y="4362480"/>
            <a:ext cx="1798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组合 10"/>
          <p:cNvGrpSpPr/>
          <p:nvPr/>
        </p:nvGrpSpPr>
        <p:grpSpPr>
          <a:xfrm>
            <a:off x="179280" y="2309760"/>
            <a:ext cx="2436840" cy="1397160"/>
            <a:chOff x="179280" y="2309760"/>
            <a:chExt cx="2436840" cy="1397160"/>
          </a:xfrm>
        </p:grpSpPr>
        <p:sp>
          <p:nvSpPr>
            <p:cNvPr id="1165" name="文本框 3"/>
            <p:cNvSpPr/>
            <p:nvPr/>
          </p:nvSpPr>
          <p:spPr>
            <a:xfrm>
              <a:off x="179280" y="2309760"/>
              <a:ext cx="24368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  5   8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 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  6   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直接连接符 8"/>
            <p:cNvSpPr/>
            <p:nvPr/>
          </p:nvSpPr>
          <p:spPr>
            <a:xfrm>
              <a:off x="364680" y="3137760"/>
              <a:ext cx="17985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文本框 9"/>
            <p:cNvSpPr/>
            <p:nvPr/>
          </p:nvSpPr>
          <p:spPr>
            <a:xfrm>
              <a:off x="800280" y="2920680"/>
              <a:ext cx="1194480" cy="7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   9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组合 11"/>
          <p:cNvGrpSpPr/>
          <p:nvPr/>
        </p:nvGrpSpPr>
        <p:grpSpPr>
          <a:xfrm>
            <a:off x="2457360" y="2309760"/>
            <a:ext cx="2436840" cy="1397160"/>
            <a:chOff x="2457360" y="2309760"/>
            <a:chExt cx="2436840" cy="1397160"/>
          </a:xfrm>
        </p:grpSpPr>
        <p:sp>
          <p:nvSpPr>
            <p:cNvPr id="1169" name="文本框 12"/>
            <p:cNvSpPr/>
            <p:nvPr/>
          </p:nvSpPr>
          <p:spPr>
            <a:xfrm>
              <a:off x="2457360" y="2309760"/>
              <a:ext cx="24368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  0   0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 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  6  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直接连接符 13"/>
            <p:cNvSpPr/>
            <p:nvPr/>
          </p:nvSpPr>
          <p:spPr>
            <a:xfrm>
              <a:off x="2642760" y="3137760"/>
              <a:ext cx="17985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文本框 14"/>
            <p:cNvSpPr/>
            <p:nvPr/>
          </p:nvSpPr>
          <p:spPr>
            <a:xfrm>
              <a:off x="3078360" y="2920680"/>
              <a:ext cx="1194480" cy="7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   3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组合 15"/>
          <p:cNvGrpSpPr/>
          <p:nvPr/>
        </p:nvGrpSpPr>
        <p:grpSpPr>
          <a:xfrm>
            <a:off x="46080" y="4270320"/>
            <a:ext cx="2436840" cy="1397160"/>
            <a:chOff x="46080" y="4270320"/>
            <a:chExt cx="2436840" cy="1397160"/>
          </a:xfrm>
        </p:grpSpPr>
        <p:sp>
          <p:nvSpPr>
            <p:cNvPr id="1173" name="文本框 16"/>
            <p:cNvSpPr/>
            <p:nvPr/>
          </p:nvSpPr>
          <p:spPr>
            <a:xfrm>
              <a:off x="46080" y="4270320"/>
              <a:ext cx="24368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  3   9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  8   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直接连接符 17"/>
            <p:cNvSpPr/>
            <p:nvPr/>
          </p:nvSpPr>
          <p:spPr>
            <a:xfrm>
              <a:off x="231480" y="5098320"/>
              <a:ext cx="17985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文本框 18"/>
            <p:cNvSpPr/>
            <p:nvPr/>
          </p:nvSpPr>
          <p:spPr>
            <a:xfrm>
              <a:off x="810720" y="4881240"/>
              <a:ext cx="1194480" cy="7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   2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组合 19"/>
          <p:cNvGrpSpPr/>
          <p:nvPr/>
        </p:nvGrpSpPr>
        <p:grpSpPr>
          <a:xfrm>
            <a:off x="2482920" y="4197240"/>
            <a:ext cx="2436840" cy="1397160"/>
            <a:chOff x="2482920" y="4197240"/>
            <a:chExt cx="2436840" cy="1397160"/>
          </a:xfrm>
        </p:grpSpPr>
        <p:sp>
          <p:nvSpPr>
            <p:cNvPr id="1177" name="文本框 20"/>
            <p:cNvSpPr/>
            <p:nvPr/>
          </p:nvSpPr>
          <p:spPr>
            <a:xfrm>
              <a:off x="2482920" y="4197240"/>
              <a:ext cx="24368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5   4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  7  8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直接连接符 21"/>
            <p:cNvSpPr/>
            <p:nvPr/>
          </p:nvSpPr>
          <p:spPr>
            <a:xfrm>
              <a:off x="2668320" y="5025240"/>
              <a:ext cx="17985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文本框 22"/>
            <p:cNvSpPr/>
            <p:nvPr/>
          </p:nvSpPr>
          <p:spPr>
            <a:xfrm>
              <a:off x="3175560" y="4808160"/>
              <a:ext cx="1194480" cy="7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   3 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组合 23"/>
          <p:cNvGrpSpPr/>
          <p:nvPr/>
        </p:nvGrpSpPr>
        <p:grpSpPr>
          <a:xfrm>
            <a:off x="5783400" y="2309760"/>
            <a:ext cx="2436840" cy="1397160"/>
            <a:chOff x="5783400" y="2309760"/>
            <a:chExt cx="2436840" cy="1397160"/>
          </a:xfrm>
        </p:grpSpPr>
        <p:sp>
          <p:nvSpPr>
            <p:cNvPr id="1181" name="文本框 24"/>
            <p:cNvSpPr/>
            <p:nvPr/>
          </p:nvSpPr>
          <p:spPr>
            <a:xfrm>
              <a:off x="5783400" y="2309760"/>
              <a:ext cx="24368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  0   0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  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   0  9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直接连接符 25"/>
            <p:cNvSpPr/>
            <p:nvPr/>
          </p:nvSpPr>
          <p:spPr>
            <a:xfrm>
              <a:off x="5968800" y="3137760"/>
              <a:ext cx="17985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文本框 26"/>
            <p:cNvSpPr/>
            <p:nvPr/>
          </p:nvSpPr>
          <p:spPr>
            <a:xfrm>
              <a:off x="6548040" y="2920680"/>
              <a:ext cx="1194480" cy="7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   9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组合 27"/>
          <p:cNvGrpSpPr/>
          <p:nvPr/>
        </p:nvGrpSpPr>
        <p:grpSpPr>
          <a:xfrm>
            <a:off x="5783400" y="4270320"/>
            <a:ext cx="2436840" cy="1397160"/>
            <a:chOff x="5783400" y="4270320"/>
            <a:chExt cx="2436840" cy="1397160"/>
          </a:xfrm>
        </p:grpSpPr>
        <p:sp>
          <p:nvSpPr>
            <p:cNvPr id="1185" name="文本框 28"/>
            <p:cNvSpPr/>
            <p:nvPr/>
          </p:nvSpPr>
          <p:spPr>
            <a:xfrm>
              <a:off x="5783400" y="4270320"/>
              <a:ext cx="24368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  4   8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  6 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直接连接符 35"/>
            <p:cNvSpPr/>
            <p:nvPr/>
          </p:nvSpPr>
          <p:spPr>
            <a:xfrm>
              <a:off x="5968800" y="5098320"/>
              <a:ext cx="17985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文本框 36"/>
            <p:cNvSpPr/>
            <p:nvPr/>
          </p:nvSpPr>
          <p:spPr>
            <a:xfrm>
              <a:off x="6490080" y="4881240"/>
              <a:ext cx="1194480" cy="7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  1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文本框 37"/>
          <p:cNvSpPr/>
          <p:nvPr/>
        </p:nvSpPr>
        <p:spPr>
          <a:xfrm>
            <a:off x="1862280" y="1746360"/>
            <a:ext cx="919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38"/>
          <p:cNvSpPr/>
          <p:nvPr/>
        </p:nvSpPr>
        <p:spPr>
          <a:xfrm>
            <a:off x="4467240" y="1746360"/>
            <a:ext cx="9176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39"/>
          <p:cNvSpPr/>
          <p:nvPr/>
        </p:nvSpPr>
        <p:spPr>
          <a:xfrm>
            <a:off x="7767720" y="1836720"/>
            <a:ext cx="9190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40"/>
          <p:cNvSpPr/>
          <p:nvPr/>
        </p:nvSpPr>
        <p:spPr>
          <a:xfrm>
            <a:off x="1862280" y="3559320"/>
            <a:ext cx="919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41"/>
          <p:cNvSpPr/>
          <p:nvPr/>
        </p:nvSpPr>
        <p:spPr>
          <a:xfrm>
            <a:off x="4568760" y="3559320"/>
            <a:ext cx="919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42"/>
          <p:cNvSpPr/>
          <p:nvPr/>
        </p:nvSpPr>
        <p:spPr>
          <a:xfrm>
            <a:off x="7767720" y="3559320"/>
            <a:ext cx="919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6:36:41Z</dcterms:created>
  <dc:creator/>
  <dc:description/>
  <dc:language>en-US</dc:language>
  <cp:lastModifiedBy>万润仪器贸易公司</cp:lastModifiedBy>
  <dcterms:modified xsi:type="dcterms:W3CDTF">2020-08-21T01:19:49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